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3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2.png" ContentType="image/png"/>
  <Override PartName="/ppt/media/image4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9CCA-23D7-4A76-8BE3-F917FD281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3541-4EB5-4F23-AD79-75351B01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BD50-E3C8-4B4C-8032-2EC7EFCA5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07E0-436B-457B-AB3F-59C377A2D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6F2D-B82A-456E-95BC-6D0FBD3BA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5E0E-BD77-40B7-B1C3-23FFB2EC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59C7-A5F9-415C-9A0D-9FFA46A4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192F-FEA7-4D51-A030-CCC4A4A9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59E4-899F-4294-98A8-BDADAC2E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BD5B-BE91-402E-BEF1-D7913946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582A-2ED5-4102-A993-230CD892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C777-F073-4F39-8FD4-24E7FC57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F95B-D993-48E9-886C-4599041F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35FE-B250-41CA-A545-183B2AB6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E103-3A6B-4ADB-802C-F9EF8FAC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B0312-0478-460B-B5D8-9344305D2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44F2-BD17-407A-8515-E9BC8801B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A40E9-8949-48A3-8581-AEE3B9B68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38673-5058-4CA6-BB1F-B91D82D1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EF6CC-9623-4569-8E5D-A5382CDC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F49F9-AB17-4CC6-B655-AA2DD229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C8C58-CA7D-4F2E-83EE-99C224CC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3A67-5BC8-4252-AECC-67BCEEF3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59D1B-4A65-4A44-BC4D-1641CF6E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5EFB1-6827-431E-B80A-1A40592D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BB756-6300-43E4-9757-CC237FBE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4591C-AFA4-43E9-9050-5BF884CE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F5A30-CE25-4D2B-98A2-FD73874E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17090-EB35-4CA4-A279-052F436B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95999-CB31-4A87-B7AB-CAC48CDE1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F5A82-7835-4537-A4BC-5C48CD59A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FD409-342C-4E62-8F33-CC6FAB97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4B181-39A0-4B9E-A68D-7F6CF0BE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6921-C4DA-4AE2-9625-7659FFA2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0735C-222B-4970-A92B-6F8C36DF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12174-737A-4709-A530-8FF497F3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314E0-7B5A-4B70-ACDB-97350B3B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B2801-7085-4FEB-98D0-2FC6FD5C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EB5BB-3D97-491D-9D82-CB4F0A3E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A285B-8D7A-4149-97D5-6AA782B4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3DE46-4C85-4270-88E0-FD0A5C43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C38B1-08B1-4E72-B55E-B1D429634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0ED06-41CA-4272-9318-D9265BBD7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8CC7-2FE5-437A-B25E-958FA0F9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8229-083E-4075-BBB7-44F02601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CFB0-02FF-4C2D-A4BA-74EAF42E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6538-491A-40C5-9042-E9758ADA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D8CD-CE62-4A93-9B93-406EDA5F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1890-3FD6-4AC2-A025-A3EAEC4AC70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69DE-A4B2-4ADB-BDBB-6146E6AF087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3232-39EB-4BA7-BFE6-94B0E4EF8E8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5E67-C51F-473B-AECB-349C9CA1988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7" descr="C:\Users\азизова\Downloads\9489-20171201_120859.jpg"/>
          <p:cNvPicPr/>
          <p:nvPr/>
        </p:nvPicPr>
        <p:blipFill>
          <a:blip r:embed="rId2"/>
          <a:stretch/>
        </p:blipFill>
        <p:spPr>
          <a:xfrm>
            <a:off x="6378480" y="0"/>
            <a:ext cx="2765520" cy="21891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8" descr="C:\Users\азизова\Desktop\35b4dfaeec15b583b2015dbad66c4121.jpg"/>
          <p:cNvPicPr/>
          <p:nvPr/>
        </p:nvPicPr>
        <p:blipFill>
          <a:blip r:embed="rId3"/>
          <a:stretch/>
        </p:blipFill>
        <p:spPr>
          <a:xfrm>
            <a:off x="108000" y="4437000"/>
            <a:ext cx="2232000" cy="2160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C:\Users\азизова\Desktop\c4ec20b1a5e229c46fd767efd00f0f7f.jpg"/>
          <p:cNvPicPr/>
          <p:nvPr/>
        </p:nvPicPr>
        <p:blipFill>
          <a:blip r:embed="rId4"/>
          <a:stretch/>
        </p:blipFill>
        <p:spPr>
          <a:xfrm>
            <a:off x="6804000" y="4292640"/>
            <a:ext cx="2160720" cy="2305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C:\Users\азизова\Desktop\5mol5Kt2A4E0aBZJDS4V1650030830.jpeg"/>
          <p:cNvPicPr/>
          <p:nvPr/>
        </p:nvPicPr>
        <p:blipFill>
          <a:blip r:embed="rId5"/>
          <a:stretch/>
        </p:blipFill>
        <p:spPr>
          <a:xfrm>
            <a:off x="2411280" y="4292640"/>
            <a:ext cx="43452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Рисунок 9" descr="C:\Documents and Settings\User\Рабочий стол\рабочий стол 2018года\Новый 2018-2019 учебный год\Детям Беслана фото на сайт\IMG-20180908-WA0041.jpg"/>
          <p:cNvPicPr/>
          <p:nvPr/>
        </p:nvPicPr>
        <p:blipFill>
          <a:blip r:embed="rId2"/>
          <a:stretch/>
        </p:blipFill>
        <p:spPr>
          <a:xfrm>
            <a:off x="755640" y="3933720"/>
            <a:ext cx="4103640" cy="28162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11" descr="D:\рабочий стол 2018года\Новая папка (3)\IMG_20180502_120516.jpg"/>
          <p:cNvPicPr/>
          <p:nvPr/>
        </p:nvPicPr>
        <p:blipFill>
          <a:blip r:embed="rId3"/>
          <a:stretch/>
        </p:blipFill>
        <p:spPr>
          <a:xfrm>
            <a:off x="4932360" y="3933720"/>
            <a:ext cx="3960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9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азизова</cp:lastModifiedBy>
  <dcterms:modified xsi:type="dcterms:W3CDTF">2022-11-24T11:11:25Z</dcterms:modified>
  <cp:revision>9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